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C96F-50C9-496B-BDF1-1FA6D1A58C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B4C8-8F47-4823-BA81-60E0CA86D1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DB2C-C62A-4DE7-9B96-B56CB923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2E7-B0B7-4D60-86D7-C6BF1E6D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2F9-134B-4F99-982A-3CD4306E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08C-63E7-4536-BCA2-8369F53A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BB1-3013-440A-8575-7744390F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C90A-18F6-46A9-BE60-C43CB552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24C-06C3-48BC-9C9D-B7E5F197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90A7-B725-4C8F-BC8E-244A6F84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D30-4D17-4FC3-A382-AED6A504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536-D70D-41FB-BDA9-623D41A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7E7B-BE53-4E2B-9FD1-68F44259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2B2-93FC-4F74-8B2F-CD0F95C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2142-ED5A-4B56-979B-C13304A616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正方形/長方形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3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  <a:ea typeface="MS UI Gothic"/>
              </a:rPr>
              <a:t>自己目標を立てよう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4"/>
          <p:cNvSpPr/>
          <p:nvPr/>
        </p:nvSpPr>
        <p:spPr>
          <a:xfrm>
            <a:off x="2195640" y="2205000"/>
            <a:ext cx="48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１　はじめ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２　自分の授業力をチェック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３　課題を把握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４　目標を設定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５　具体的な自己目標の設定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６　終わり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スライド番号プレースホルダー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6AFF-E14E-4460-B005-CC28BDA965B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3" descr="目標実現シート"/>
          <p:cNvPicPr/>
          <p:nvPr/>
        </p:nvPicPr>
        <p:blipFill>
          <a:blip r:embed="rId1"/>
          <a:srcRect l="0" t="30648" r="0" b="6929"/>
          <a:stretch/>
        </p:blipFill>
        <p:spPr>
          <a:xfrm>
            <a:off x="2816280" y="549360"/>
            <a:ext cx="6327720" cy="63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AutoShape 4"/>
          <p:cNvSpPr/>
          <p:nvPr/>
        </p:nvSpPr>
        <p:spPr>
          <a:xfrm>
            <a:off x="2916360" y="2276640"/>
            <a:ext cx="6108480" cy="3417840"/>
          </a:xfrm>
          <a:prstGeom prst="roundRect">
            <a:avLst>
              <a:gd name="adj" fmla="val 10389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181080" y="1774800"/>
            <a:ext cx="25923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79280" y="2639880"/>
            <a:ext cx="2594160" cy="576360"/>
          </a:xfrm>
          <a:prstGeom prst="roundRect">
            <a:avLst>
              <a:gd name="adj" fmla="val 30028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52360" y="549360"/>
            <a:ext cx="2448000" cy="108108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692280"/>
            <a:ext cx="2449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目標実現シート記入の順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52360" y="18464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優先順を決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52360" y="270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己目標を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179280" y="3503520"/>
            <a:ext cx="25941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252360" y="3575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現状の認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179280" y="4367160"/>
            <a:ext cx="2665440" cy="934920"/>
          </a:xfrm>
          <a:prstGeom prst="roundRect">
            <a:avLst>
              <a:gd name="adj" fmla="val 16852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79280" y="4437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スモールステッ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の設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179280" y="5589720"/>
            <a:ext cx="2665440" cy="1009440"/>
          </a:xfrm>
          <a:prstGeom prst="roundRect">
            <a:avLst>
              <a:gd name="adj" fmla="val 14856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179280" y="566100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己目標を達成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分の姿を予想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179280" y="4365720"/>
            <a:ext cx="2664000" cy="9349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117440" y="234936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19"/>
          <p:cNvSpPr/>
          <p:nvPr/>
        </p:nvSpPr>
        <p:spPr>
          <a:xfrm>
            <a:off x="1117440" y="321480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0"/>
          <p:cNvSpPr/>
          <p:nvPr/>
        </p:nvSpPr>
        <p:spPr>
          <a:xfrm>
            <a:off x="1117440" y="407844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1"/>
          <p:cNvSpPr/>
          <p:nvPr/>
        </p:nvSpPr>
        <p:spPr>
          <a:xfrm>
            <a:off x="1117440" y="530208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タイトル 1"/>
          <p:cNvSpPr/>
          <p:nvPr/>
        </p:nvSpPr>
        <p:spPr>
          <a:xfrm>
            <a:off x="244440" y="58680"/>
            <a:ext cx="5407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４　具体的な自己目標の設定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3" descr="目標実現シート"/>
          <p:cNvPicPr/>
          <p:nvPr/>
        </p:nvPicPr>
        <p:blipFill>
          <a:blip r:embed="rId1"/>
          <a:srcRect l="0" t="30275" r="0" b="362"/>
          <a:stretch/>
        </p:blipFill>
        <p:spPr>
          <a:xfrm>
            <a:off x="2816280" y="549360"/>
            <a:ext cx="6327720" cy="60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9" name="AutoShape 4"/>
          <p:cNvSpPr/>
          <p:nvPr/>
        </p:nvSpPr>
        <p:spPr>
          <a:xfrm>
            <a:off x="2852640" y="5249880"/>
            <a:ext cx="6218280" cy="1279440"/>
          </a:xfrm>
          <a:prstGeom prst="roundRect">
            <a:avLst>
              <a:gd name="adj" fmla="val 10389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181080" y="1774800"/>
            <a:ext cx="25923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179280" y="2639880"/>
            <a:ext cx="2594160" cy="576360"/>
          </a:xfrm>
          <a:prstGeom prst="roundRect">
            <a:avLst>
              <a:gd name="adj" fmla="val 30028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252360" y="549360"/>
            <a:ext cx="2448000" cy="108108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250920" y="692280"/>
            <a:ext cx="2449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目標実現シート記入の順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52360" y="18464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優先順を決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52360" y="270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己目標を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179280" y="3503520"/>
            <a:ext cx="25941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252360" y="3575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現状の認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13"/>
          <p:cNvSpPr/>
          <p:nvPr/>
        </p:nvSpPr>
        <p:spPr>
          <a:xfrm>
            <a:off x="179280" y="4367160"/>
            <a:ext cx="2592360" cy="934920"/>
          </a:xfrm>
          <a:prstGeom prst="roundRect">
            <a:avLst>
              <a:gd name="adj" fmla="val 16852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179280" y="4437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スモールステッ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の設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15"/>
          <p:cNvSpPr/>
          <p:nvPr/>
        </p:nvSpPr>
        <p:spPr>
          <a:xfrm>
            <a:off x="179280" y="5589720"/>
            <a:ext cx="2592360" cy="1009440"/>
          </a:xfrm>
          <a:prstGeom prst="roundRect">
            <a:avLst>
              <a:gd name="adj" fmla="val 14856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179280" y="5661000"/>
            <a:ext cx="26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己目標を達成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分の姿を予想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7"/>
          <p:cNvSpPr/>
          <p:nvPr/>
        </p:nvSpPr>
        <p:spPr>
          <a:xfrm>
            <a:off x="179280" y="5589720"/>
            <a:ext cx="2592360" cy="100800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117440" y="234936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1117440" y="321480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20"/>
          <p:cNvSpPr/>
          <p:nvPr/>
        </p:nvSpPr>
        <p:spPr>
          <a:xfrm>
            <a:off x="1117440" y="407844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21"/>
          <p:cNvSpPr/>
          <p:nvPr/>
        </p:nvSpPr>
        <p:spPr>
          <a:xfrm>
            <a:off x="1117440" y="530208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タイトル 1"/>
          <p:cNvSpPr/>
          <p:nvPr/>
        </p:nvSpPr>
        <p:spPr>
          <a:xfrm>
            <a:off x="250920" y="0"/>
            <a:ext cx="5430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４　具体的な自己目標の設定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タイトル 1"/>
          <p:cNvSpPr/>
          <p:nvPr/>
        </p:nvSpPr>
        <p:spPr>
          <a:xfrm>
            <a:off x="457200" y="127080"/>
            <a:ext cx="3683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５　終わり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2"/>
          <p:cNvSpPr/>
          <p:nvPr/>
        </p:nvSpPr>
        <p:spPr>
          <a:xfrm>
            <a:off x="971640" y="709560"/>
            <a:ext cx="7200720" cy="1359000"/>
          </a:xfrm>
          <a:prstGeom prst="rect">
            <a:avLst/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テキスト ボックス 3"/>
          <p:cNvSpPr/>
          <p:nvPr/>
        </p:nvSpPr>
        <p:spPr>
          <a:xfrm>
            <a:off x="1378080" y="1052640"/>
            <a:ext cx="64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Calibri"/>
              </a:rPr>
              <a:t>情報交換をしましょう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円/楕円 4"/>
          <p:cNvSpPr/>
          <p:nvPr/>
        </p:nvSpPr>
        <p:spPr>
          <a:xfrm>
            <a:off x="982800" y="2852640"/>
            <a:ext cx="7200720" cy="201636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テキスト ボックス 6"/>
          <p:cNvSpPr/>
          <p:nvPr/>
        </p:nvSpPr>
        <p:spPr>
          <a:xfrm>
            <a:off x="1368360" y="31989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</a:rPr>
              <a:t>悩みや考えていることを自由に話し合いましょう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下矢印 7"/>
          <p:cNvSpPr/>
          <p:nvPr/>
        </p:nvSpPr>
        <p:spPr>
          <a:xfrm>
            <a:off x="4032360" y="2205000"/>
            <a:ext cx="1079280" cy="53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下矢印 8"/>
          <p:cNvSpPr/>
          <p:nvPr/>
        </p:nvSpPr>
        <p:spPr>
          <a:xfrm>
            <a:off x="4118040" y="5013360"/>
            <a:ext cx="1079280" cy="536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9"/>
          <p:cNvSpPr/>
          <p:nvPr/>
        </p:nvSpPr>
        <p:spPr>
          <a:xfrm>
            <a:off x="179280" y="573264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授業力を向上させるために協力しましょう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角丸四角形 8"/>
          <p:cNvSpPr/>
          <p:nvPr/>
        </p:nvSpPr>
        <p:spPr>
          <a:xfrm>
            <a:off x="1139760" y="873000"/>
            <a:ext cx="6264360" cy="79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１　はじめ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4"/>
          <p:cNvSpPr/>
          <p:nvPr/>
        </p:nvSpPr>
        <p:spPr>
          <a:xfrm>
            <a:off x="1139760" y="4005360"/>
            <a:ext cx="6264360" cy="792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5"/>
          <p:cNvSpPr/>
          <p:nvPr/>
        </p:nvSpPr>
        <p:spPr>
          <a:xfrm>
            <a:off x="1405080" y="9460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授業力セルフチェックシー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角丸四角形 6"/>
          <p:cNvSpPr/>
          <p:nvPr/>
        </p:nvSpPr>
        <p:spPr>
          <a:xfrm>
            <a:off x="1119240" y="2492280"/>
            <a:ext cx="626436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7"/>
          <p:cNvSpPr/>
          <p:nvPr/>
        </p:nvSpPr>
        <p:spPr>
          <a:xfrm>
            <a:off x="1427040" y="256536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目標設定シー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9"/>
          <p:cNvSpPr/>
          <p:nvPr/>
        </p:nvSpPr>
        <p:spPr>
          <a:xfrm>
            <a:off x="1434960" y="4078440"/>
            <a:ext cx="56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目標実現シー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角丸四角形 10"/>
          <p:cNvSpPr/>
          <p:nvPr/>
        </p:nvSpPr>
        <p:spPr>
          <a:xfrm>
            <a:off x="1162080" y="5516640"/>
            <a:ext cx="6264360" cy="11253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1"/>
          <p:cNvSpPr/>
          <p:nvPr/>
        </p:nvSpPr>
        <p:spPr>
          <a:xfrm>
            <a:off x="1406520" y="551664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</a:rPr>
              <a:t>「授業力向上」の取り組みのスター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下矢印 12"/>
          <p:cNvSpPr/>
          <p:nvPr/>
        </p:nvSpPr>
        <p:spPr>
          <a:xfrm>
            <a:off x="3876840" y="1882800"/>
            <a:ext cx="7905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下矢印 14"/>
          <p:cNvSpPr/>
          <p:nvPr/>
        </p:nvSpPr>
        <p:spPr>
          <a:xfrm>
            <a:off x="3876840" y="3429000"/>
            <a:ext cx="7905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下矢印 15"/>
          <p:cNvSpPr/>
          <p:nvPr/>
        </p:nvSpPr>
        <p:spPr>
          <a:xfrm>
            <a:off x="3898800" y="4952880"/>
            <a:ext cx="7905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8"/>
          <p:cNvSpPr/>
          <p:nvPr/>
        </p:nvSpPr>
        <p:spPr>
          <a:xfrm>
            <a:off x="3419640" y="981000"/>
            <a:ext cx="2160360" cy="4032360"/>
          </a:xfrm>
          <a:prstGeom prst="downArrow">
            <a:avLst>
              <a:gd name="adj1" fmla="val 50037"/>
              <a:gd name="adj2" fmla="val 3255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2484360" y="836640"/>
            <a:ext cx="381636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556000" y="836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自己目標の設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8"/>
          <p:cNvGrpSpPr/>
          <p:nvPr/>
        </p:nvGrpSpPr>
        <p:grpSpPr>
          <a:xfrm>
            <a:off x="1187280" y="1844640"/>
            <a:ext cx="2990520" cy="639360"/>
            <a:chOff x="1187280" y="1844640"/>
            <a:chExt cx="2990520" cy="639360"/>
          </a:xfrm>
        </p:grpSpPr>
        <p:sp>
          <p:nvSpPr>
            <p:cNvPr id="68" name="Rectangle 9"/>
            <p:cNvSpPr/>
            <p:nvPr/>
          </p:nvSpPr>
          <p:spPr>
            <a:xfrm rot="5400000">
              <a:off x="2360520" y="671040"/>
              <a:ext cx="639360" cy="2985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10"/>
            <p:cNvSpPr/>
            <p:nvPr/>
          </p:nvSpPr>
          <p:spPr>
            <a:xfrm>
              <a:off x="1187280" y="1923480"/>
              <a:ext cx="29905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</a:rPr>
                <a:t>目標設定シー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11"/>
          <p:cNvGrpSpPr/>
          <p:nvPr/>
        </p:nvGrpSpPr>
        <p:grpSpPr>
          <a:xfrm>
            <a:off x="4716360" y="1844640"/>
            <a:ext cx="2990520" cy="639360"/>
            <a:chOff x="4716360" y="1844640"/>
            <a:chExt cx="2990520" cy="639360"/>
          </a:xfrm>
        </p:grpSpPr>
        <p:sp>
          <p:nvSpPr>
            <p:cNvPr id="71" name="Rectangle 12"/>
            <p:cNvSpPr/>
            <p:nvPr/>
          </p:nvSpPr>
          <p:spPr>
            <a:xfrm rot="5400000">
              <a:off x="5889600" y="671040"/>
              <a:ext cx="639360" cy="2985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13"/>
            <p:cNvSpPr/>
            <p:nvPr/>
          </p:nvSpPr>
          <p:spPr>
            <a:xfrm>
              <a:off x="4716360" y="1923480"/>
              <a:ext cx="299052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Arial"/>
                </a:rPr>
                <a:t>目標実現シート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AutoShape 14"/>
          <p:cNvSpPr/>
          <p:nvPr/>
        </p:nvSpPr>
        <p:spPr>
          <a:xfrm>
            <a:off x="468360" y="2781360"/>
            <a:ext cx="388764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39640" y="285264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実態把握，取組内容の絞込み，校内研究との関連付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4643280" y="2781360"/>
            <a:ext cx="396108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643280" y="285264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自己目標，ｽﾓｰﾙｽﾃｯﾌﾟ，達成時の自分の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1692360" y="4869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授業力向上の取組へスムーズにつなげ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タイトル 1"/>
          <p:cNvSpPr/>
          <p:nvPr/>
        </p:nvSpPr>
        <p:spPr>
          <a:xfrm>
            <a:off x="457200" y="274680"/>
            <a:ext cx="2819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１　はじめ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rcRect l="886" t="19737" r="27317" b="31894"/>
          <a:stretch/>
        </p:blipFill>
        <p:spPr>
          <a:xfrm>
            <a:off x="101520" y="555480"/>
            <a:ext cx="8861400" cy="409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72686" t="37506" r="4098" b="24265"/>
          <a:stretch/>
        </p:blipFill>
        <p:spPr>
          <a:xfrm>
            <a:off x="3994200" y="2637000"/>
            <a:ext cx="2725560" cy="403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AutoShape 4"/>
          <p:cNvSpPr/>
          <p:nvPr/>
        </p:nvSpPr>
        <p:spPr>
          <a:xfrm>
            <a:off x="655560" y="1863720"/>
            <a:ext cx="1936800" cy="527040"/>
          </a:xfrm>
          <a:prstGeom prst="roundRect">
            <a:avLst>
              <a:gd name="adj" fmla="val 7458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671400" y="1446120"/>
            <a:ext cx="1943280" cy="398520"/>
          </a:xfrm>
          <a:prstGeom prst="roundRect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15840" y="1400040"/>
            <a:ext cx="15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診断項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738600" y="1878120"/>
            <a:ext cx="5092560" cy="492120"/>
          </a:xfrm>
          <a:prstGeom prst="roundRect">
            <a:avLst>
              <a:gd name="adj" fmla="val 3458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915080" y="1438200"/>
            <a:ext cx="2376360" cy="392040"/>
          </a:xfrm>
          <a:prstGeom prst="roundRect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211720" y="138744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評価の観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3995640" y="2637000"/>
            <a:ext cx="2737080" cy="4032000"/>
          </a:xfrm>
          <a:custGeom>
            <a:avLst/>
            <a:gdLst>
              <a:gd name="textAreaLeft" fmla="*/ 36720 w 2737080"/>
              <a:gd name="textAreaRight" fmla="*/ 2700360 w 2737080"/>
              <a:gd name="textAreaTop" fmla="*/ 36720 h 4032000"/>
              <a:gd name="textAreaBottom" fmla="*/ 3995280 h 4032000"/>
            </a:gdLst>
            <a:ahLst/>
            <a:rect l="textAreaLeft" t="textAreaTop" r="textAreaRight" b="textAreaBottom"/>
            <a:pathLst>
              <a:path w="21600" h="31818">
                <a:moveTo>
                  <a:pt x="992" y="0"/>
                </a:moveTo>
                <a:arcTo wR="992" hR="992" stAng="16200000" swAng="-5400000"/>
                <a:lnTo>
                  <a:pt x="0" y="30826"/>
                </a:lnTo>
                <a:arcTo wR="992" hR="992" stAng="10800000" swAng="-5400000"/>
                <a:lnTo>
                  <a:pt x="20608" y="31818"/>
                </a:lnTo>
                <a:arcTo wR="992" hR="992" stAng="5400000" swAng="-5400000"/>
                <a:lnTo>
                  <a:pt x="21600" y="992"/>
                </a:lnTo>
                <a:arcTo wR="992" hR="992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6156360" y="4941720"/>
            <a:ext cx="287280" cy="28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2843280" y="1989000"/>
            <a:ext cx="287280" cy="268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AutoShape 18"/>
          <p:cNvCxnSpPr>
            <a:stCxn id="88" idx="0"/>
            <a:endCxn id="89" idx="4"/>
          </p:cNvCxnSpPr>
          <p:nvPr/>
        </p:nvCxnSpPr>
        <p:spPr>
          <a:xfrm flipV="1" rot="16200000">
            <a:off x="3320280" y="1942560"/>
            <a:ext cx="2647080" cy="3313800"/>
          </a:xfrm>
          <a:prstGeom prst="curvedConnector5">
            <a:avLst>
              <a:gd name="adj1" fmla="val 35500"/>
              <a:gd name="adj2" fmla="val 50000"/>
              <a:gd name="adj3" fmla="val 35500"/>
            </a:avLst>
          </a:prstGeom>
          <a:ln w="3816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91" name="タイトル 1"/>
          <p:cNvSpPr/>
          <p:nvPr/>
        </p:nvSpPr>
        <p:spPr>
          <a:xfrm>
            <a:off x="457200" y="127080"/>
            <a:ext cx="3322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２　課題を把握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21"/>
          <p:cNvGrpSpPr/>
          <p:nvPr/>
        </p:nvGrpSpPr>
        <p:grpSpPr>
          <a:xfrm>
            <a:off x="4427640" y="2781360"/>
            <a:ext cx="1944720" cy="467640"/>
            <a:chOff x="4427640" y="2781360"/>
            <a:chExt cx="1944720" cy="467640"/>
          </a:xfrm>
        </p:grpSpPr>
        <p:sp>
          <p:nvSpPr>
            <p:cNvPr id="93" name="AutoShape 14"/>
            <p:cNvSpPr/>
            <p:nvPr/>
          </p:nvSpPr>
          <p:spPr>
            <a:xfrm>
              <a:off x="4427640" y="2781360"/>
              <a:ext cx="1944720" cy="463320"/>
            </a:xfrm>
            <a:prstGeom prst="roundRect">
              <a:avLst>
                <a:gd name="adj" fmla="val 50000"/>
              </a:avLst>
            </a:prstGeom>
            <a:solidFill>
              <a:srgbClr val="cc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4715280" y="2789280"/>
              <a:ext cx="151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HG丸ｺﾞｼｯｸM-PRO"/>
                  <a:ea typeface="HG丸ｺﾞｼｯｸM-PRO"/>
                </a:rPr>
                <a:t>評価基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タイトル 1"/>
          <p:cNvSpPr/>
          <p:nvPr/>
        </p:nvSpPr>
        <p:spPr>
          <a:xfrm>
            <a:off x="457200" y="127080"/>
            <a:ext cx="3970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２　課題を把握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rcRect l="0" t="21146" r="31550" b="10001"/>
          <a:stretch/>
        </p:blipFill>
        <p:spPr>
          <a:xfrm>
            <a:off x="117360" y="620640"/>
            <a:ext cx="893916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181" t="15913" r="3094" b="4479"/>
          <a:stretch/>
        </p:blipFill>
        <p:spPr>
          <a:xfrm>
            <a:off x="468360" y="719280"/>
            <a:ext cx="8496360" cy="5805360"/>
          </a:xfrm>
          <a:prstGeom prst="rect">
            <a:avLst/>
          </a:prstGeom>
          <a:ln w="0">
            <a:noFill/>
          </a:ln>
        </p:spPr>
      </p:pic>
      <p:sp>
        <p:nvSpPr>
          <p:cNvPr id="98" name="Oval 7"/>
          <p:cNvSpPr/>
          <p:nvPr/>
        </p:nvSpPr>
        <p:spPr>
          <a:xfrm>
            <a:off x="2987640" y="2781360"/>
            <a:ext cx="77004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95280" y="765000"/>
            <a:ext cx="5400720" cy="1295640"/>
          </a:xfrm>
          <a:prstGeom prst="wedgeEllipseCallout">
            <a:avLst>
              <a:gd name="adj1" fmla="val 5027"/>
              <a:gd name="adj2" fmla="val 10772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84360" y="9810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「校内研究で取り組む」か「個人で取り組む」かを選択す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780000" y="2781360"/>
            <a:ext cx="2909880" cy="479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タイトル 1"/>
          <p:cNvSpPr/>
          <p:nvPr/>
        </p:nvSpPr>
        <p:spPr>
          <a:xfrm>
            <a:off x="457200" y="127080"/>
            <a:ext cx="3610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３　目標を設定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331920" y="2755800"/>
            <a:ext cx="2614320" cy="3560760"/>
          </a:xfrm>
          <a:custGeom>
            <a:avLst/>
            <a:gdLst>
              <a:gd name="textAreaLeft" fmla="*/ 20160 w 2614320"/>
              <a:gd name="textAreaRight" fmla="*/ 2594160 w 2614320"/>
              <a:gd name="textAreaTop" fmla="*/ 20160 h 3560760"/>
              <a:gd name="textAreaBottom" fmla="*/ 3540600 h 3560760"/>
            </a:gdLst>
            <a:ahLst/>
            <a:rect l="textAreaLeft" t="textAreaTop" r="textAreaRight" b="textAreaBottom"/>
            <a:pathLst>
              <a:path w="21600" h="29419">
                <a:moveTo>
                  <a:pt x="569" y="0"/>
                </a:moveTo>
                <a:arcTo wR="569" hR="569" stAng="16200000" swAng="-5400000"/>
                <a:lnTo>
                  <a:pt x="0" y="28850"/>
                </a:lnTo>
                <a:arcTo wR="569" hR="569" stAng="10800000" swAng="-5400000"/>
                <a:lnTo>
                  <a:pt x="21031" y="29419"/>
                </a:lnTo>
                <a:arcTo wR="569" hR="569" stAng="5400000" swAng="-5400000"/>
                <a:lnTo>
                  <a:pt x="21600" y="569"/>
                </a:lnTo>
                <a:arcTo wR="569" hR="569" stAng="0" swAng="-5400000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63360" y="2852640"/>
            <a:ext cx="457200" cy="3456000"/>
          </a:xfrm>
          <a:custGeom>
            <a:avLst/>
            <a:gdLst>
              <a:gd name="textAreaLeft" fmla="*/ 66960 w 457200"/>
              <a:gd name="textAreaRight" fmla="*/ 390240 w 457200"/>
              <a:gd name="textAreaTop" fmla="*/ 66960 h 3456000"/>
              <a:gd name="textAreaBottom" fmla="*/ 3389040 h 3456000"/>
            </a:gdLst>
            <a:ahLst/>
            <a:rect l="textAreaLeft" t="textAreaTop" r="textAreaRight" b="textAreaBottom"/>
            <a:pathLst>
              <a:path w="21600" h="163164">
                <a:moveTo>
                  <a:pt x="10800" y="0"/>
                </a:moveTo>
                <a:arcTo wR="10800" hR="10800" stAng="16200000" swAng="-5400000"/>
                <a:lnTo>
                  <a:pt x="0" y="152364"/>
                </a:lnTo>
                <a:arcTo wR="10800" hR="10800" stAng="10800000" swAng="-5400000"/>
                <a:lnTo>
                  <a:pt x="10800" y="16316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cc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353160" y="3284640"/>
            <a:ext cx="91188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７項目以内に絞込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2700360" y="4292640"/>
            <a:ext cx="4319640" cy="1873080"/>
          </a:xfrm>
          <a:prstGeom prst="wedgeEllipseCallout">
            <a:avLst>
              <a:gd name="adj1" fmla="val -4685"/>
              <a:gd name="adj2" fmla="val -10712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059280" y="458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「いつ，どこで，なにを，どうする」という流れで具体の手だてを考え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181080" y="1774800"/>
            <a:ext cx="25923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79280" y="2639880"/>
            <a:ext cx="2594160" cy="576360"/>
          </a:xfrm>
          <a:prstGeom prst="roundRect">
            <a:avLst>
              <a:gd name="adj" fmla="val 30028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52360" y="549360"/>
            <a:ext cx="2448000" cy="108108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50920" y="692280"/>
            <a:ext cx="2449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目標実現シー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記入の順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2360" y="18464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優先順を決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52360" y="270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己目標を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179280" y="3503520"/>
            <a:ext cx="25941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2360" y="3575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現状の認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179280" y="4367160"/>
            <a:ext cx="2665440" cy="934920"/>
          </a:xfrm>
          <a:prstGeom prst="roundRect">
            <a:avLst>
              <a:gd name="adj" fmla="val 16852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179280" y="4437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スモールステッ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の設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179280" y="5589720"/>
            <a:ext cx="2665440" cy="1009440"/>
          </a:xfrm>
          <a:prstGeom prst="roundRect">
            <a:avLst>
              <a:gd name="adj" fmla="val 14856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79280" y="566100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己目標を達成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分の姿を予想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15" descr=""/>
          <p:cNvPicPr/>
          <p:nvPr/>
        </p:nvPicPr>
        <p:blipFill>
          <a:blip r:embed="rId1"/>
          <a:stretch/>
        </p:blipFill>
        <p:spPr>
          <a:xfrm>
            <a:off x="2916360" y="1052640"/>
            <a:ext cx="6227640" cy="244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1" name="AutoShape 16"/>
          <p:cNvSpPr/>
          <p:nvPr/>
        </p:nvSpPr>
        <p:spPr>
          <a:xfrm>
            <a:off x="181080" y="1774800"/>
            <a:ext cx="2592360" cy="5745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564000" y="357336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（目標実現シートの上部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18"/>
          <p:cNvSpPr/>
          <p:nvPr/>
        </p:nvSpPr>
        <p:spPr>
          <a:xfrm>
            <a:off x="1117440" y="234936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1117440" y="321480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0"/>
          <p:cNvSpPr/>
          <p:nvPr/>
        </p:nvSpPr>
        <p:spPr>
          <a:xfrm>
            <a:off x="1117440" y="407844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1117440" y="530208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タイトル 1"/>
          <p:cNvSpPr/>
          <p:nvPr/>
        </p:nvSpPr>
        <p:spPr>
          <a:xfrm>
            <a:off x="250920" y="127080"/>
            <a:ext cx="6408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４　具体的な自己目標の設定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5"/>
          <p:cNvSpPr/>
          <p:nvPr/>
        </p:nvSpPr>
        <p:spPr>
          <a:xfrm>
            <a:off x="181080" y="1774800"/>
            <a:ext cx="25923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79280" y="2639880"/>
            <a:ext cx="2594160" cy="576360"/>
          </a:xfrm>
          <a:prstGeom prst="roundRect">
            <a:avLst>
              <a:gd name="adj" fmla="val 30028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52360" y="549360"/>
            <a:ext cx="2448000" cy="108108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692280"/>
            <a:ext cx="2449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目標実現シー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記入の順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52360" y="18464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優先順を決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52360" y="270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己目標を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179280" y="3503520"/>
            <a:ext cx="25941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252360" y="3575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現状の認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179280" y="4367160"/>
            <a:ext cx="2592360" cy="934920"/>
          </a:xfrm>
          <a:prstGeom prst="roundRect">
            <a:avLst>
              <a:gd name="adj" fmla="val 16852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179280" y="4437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スモールステッ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の設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179280" y="5589720"/>
            <a:ext cx="2592360" cy="1009440"/>
          </a:xfrm>
          <a:prstGeom prst="roundRect">
            <a:avLst>
              <a:gd name="adj" fmla="val 14856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79280" y="566100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己目標を達成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分の姿を予想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179280" y="2637000"/>
            <a:ext cx="2592360" cy="57456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8"/>
          <p:cNvSpPr/>
          <p:nvPr/>
        </p:nvSpPr>
        <p:spPr>
          <a:xfrm>
            <a:off x="1117440" y="234936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19"/>
          <p:cNvSpPr/>
          <p:nvPr/>
        </p:nvSpPr>
        <p:spPr>
          <a:xfrm>
            <a:off x="1117440" y="321480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20"/>
          <p:cNvSpPr/>
          <p:nvPr/>
        </p:nvSpPr>
        <p:spPr>
          <a:xfrm>
            <a:off x="1117440" y="407844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21"/>
          <p:cNvSpPr/>
          <p:nvPr/>
        </p:nvSpPr>
        <p:spPr>
          <a:xfrm>
            <a:off x="1117440" y="530208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タイトル 1"/>
          <p:cNvSpPr/>
          <p:nvPr/>
        </p:nvSpPr>
        <p:spPr>
          <a:xfrm>
            <a:off x="250920" y="0"/>
            <a:ext cx="5689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４　具体的な自己目標の設定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3" descr="目標実現シート"/>
          <p:cNvPicPr/>
          <p:nvPr/>
        </p:nvPicPr>
        <p:blipFill>
          <a:blip r:embed="rId1"/>
          <a:srcRect l="0" t="0" r="0" b="50835"/>
          <a:stretch/>
        </p:blipFill>
        <p:spPr>
          <a:xfrm>
            <a:off x="2816280" y="907920"/>
            <a:ext cx="632772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AutoShape 4"/>
          <p:cNvSpPr/>
          <p:nvPr/>
        </p:nvSpPr>
        <p:spPr>
          <a:xfrm>
            <a:off x="2894040" y="2674800"/>
            <a:ext cx="6141960" cy="1229040"/>
          </a:xfrm>
          <a:prstGeom prst="roundRect">
            <a:avLst>
              <a:gd name="adj" fmla="val 12532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3" descr="目標実現シート"/>
          <p:cNvPicPr/>
          <p:nvPr/>
        </p:nvPicPr>
        <p:blipFill>
          <a:blip r:embed="rId1"/>
          <a:srcRect l="0" t="0" r="0" b="50835"/>
          <a:stretch/>
        </p:blipFill>
        <p:spPr>
          <a:xfrm>
            <a:off x="2816280" y="907920"/>
            <a:ext cx="6327720" cy="496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AutoShape 4"/>
          <p:cNvSpPr/>
          <p:nvPr/>
        </p:nvSpPr>
        <p:spPr>
          <a:xfrm>
            <a:off x="2906640" y="4272120"/>
            <a:ext cx="6129360" cy="1203120"/>
          </a:xfrm>
          <a:prstGeom prst="roundRect">
            <a:avLst>
              <a:gd name="adj" fmla="val 9236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81080" y="1774800"/>
            <a:ext cx="25923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179280" y="2639880"/>
            <a:ext cx="2594160" cy="576360"/>
          </a:xfrm>
          <a:prstGeom prst="roundRect">
            <a:avLst>
              <a:gd name="adj" fmla="val 30028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52360" y="549360"/>
            <a:ext cx="2448000" cy="1081080"/>
          </a:xfrm>
          <a:prstGeom prst="rect">
            <a:avLst/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50920" y="692280"/>
            <a:ext cx="2449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目標実現シート記入の順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52360" y="18464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優先順を決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52360" y="2709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己目標を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179280" y="3503520"/>
            <a:ext cx="2594160" cy="576360"/>
          </a:xfrm>
          <a:prstGeom prst="roundRect">
            <a:avLst>
              <a:gd name="adj" fmla="val 27824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252360" y="35751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現状の認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179280" y="4367160"/>
            <a:ext cx="2592360" cy="934920"/>
          </a:xfrm>
          <a:prstGeom prst="roundRect">
            <a:avLst>
              <a:gd name="adj" fmla="val 16852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179280" y="4437000"/>
            <a:ext cx="338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スモールステッ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の設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179280" y="5589720"/>
            <a:ext cx="2592360" cy="1009440"/>
          </a:xfrm>
          <a:prstGeom prst="roundRect">
            <a:avLst>
              <a:gd name="adj" fmla="val 14856"/>
            </a:avLst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179280" y="5661000"/>
            <a:ext cx="28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己目標を達成し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自分の姿を予想す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17"/>
          <p:cNvSpPr/>
          <p:nvPr/>
        </p:nvSpPr>
        <p:spPr>
          <a:xfrm>
            <a:off x="179280" y="3500280"/>
            <a:ext cx="2592360" cy="5749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18"/>
          <p:cNvSpPr/>
          <p:nvPr/>
        </p:nvSpPr>
        <p:spPr>
          <a:xfrm>
            <a:off x="1117440" y="234936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19"/>
          <p:cNvSpPr/>
          <p:nvPr/>
        </p:nvSpPr>
        <p:spPr>
          <a:xfrm>
            <a:off x="1117440" y="321480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1117440" y="4078440"/>
            <a:ext cx="574920" cy="28728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21"/>
          <p:cNvSpPr/>
          <p:nvPr/>
        </p:nvSpPr>
        <p:spPr>
          <a:xfrm>
            <a:off x="1117440" y="5302080"/>
            <a:ext cx="574920" cy="287640"/>
          </a:xfrm>
          <a:prstGeom prst="downArrow">
            <a:avLst>
              <a:gd name="adj1" fmla="val 49722"/>
              <a:gd name="adj2" fmla="val 5745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タイトル 1"/>
          <p:cNvSpPr/>
          <p:nvPr/>
        </p:nvSpPr>
        <p:spPr>
          <a:xfrm>
            <a:off x="250920" y="0"/>
            <a:ext cx="5360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Calibri"/>
                <a:ea typeface="ＤＦ平成ゴシック体W5"/>
              </a:rPr>
              <a:t>４　具体的な自己目標の設定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16:15:05Z</dcterms:created>
  <dc:creator> </dc:creator>
  <dc:description/>
  <dc:language>en-US</dc:language>
  <cp:lastModifiedBy>long003</cp:lastModifiedBy>
  <cp:lastPrinted>2012-12-16T17:19:34Z</cp:lastPrinted>
  <dcterms:modified xsi:type="dcterms:W3CDTF">2013-02-20T04:30:51Z</dcterms:modified>
  <cp:revision>16</cp:revision>
  <dc:subject/>
  <dc:title>PowerPoint プレゼンテーション</dc:title>
</cp:coreProperties>
</file>